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0041-3E17-4B8C-B586-D02BE1C95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4D4F-A9BC-47D0-8DA6-652AF058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C375-1455-4082-B04C-BCA25C465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6CBB-2569-4647-A023-203EA45DF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AC5F2-AEF3-4347-BC8E-547EE2E4B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5F4BA-0375-4C6B-B7DE-CDDD2566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1086-4CAD-44B6-8DA9-41D5773A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57AD-826C-452D-AE6D-D430D1C8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D449-9B1D-4B6C-8812-A1EDEA57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8AD1B-0BD3-4237-81EE-B2C7776E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B675-FD75-410F-A687-EC74FA7B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19B7-C5B5-4C7E-9951-4E49F01B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117A-0A19-4F21-BE49-98F76033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7AC7-6E18-4207-ACED-2F284ABB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D187-0FF4-475C-BFE7-BDCED560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5415-F90D-4EE7-9C66-9E6DA6A2B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4D4B0-F501-4258-BA36-174CA6643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9C87-6EB4-4CD9-BE81-79DC22CF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8E8F-C19C-4282-A4A8-D8716976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BFFB-BAB3-478F-B3F6-AE0A64E6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190B-D68B-4608-AF43-6CA5C8D7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E164-BE91-4DCC-A139-A8980E94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A9A0-1D7B-4CD8-8B79-926762E8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2B8A-863A-44B7-9497-A9EA4FB2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D1A5-277A-4DBE-BBFF-500B7229388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07FA-EEC9-4957-8917-3E2EACD668B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217240" y="1557360"/>
            <a:ext cx="47696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33"/>
                </a:solidFill>
                <a:latin typeface="Times New Roman"/>
              </a:rPr>
              <a:t>第二篇 医学原生动物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Times New Roman"/>
              </a:rPr>
              <a:t>Medical Protozoa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r>
              <a:rPr b="1" lang="en-US" sz="3600" spc="-1" strike="noStrike">
                <a:solidFill>
                  <a:srgbClr val="006633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2"/>
          <p:cNvSpPr/>
          <p:nvPr/>
        </p:nvSpPr>
        <p:spPr>
          <a:xfrm>
            <a:off x="900000" y="2708280"/>
            <a:ext cx="748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眼虫门，动基体纲                      杜氏利什曼原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副基体门，毛滴纲                      阴道毛滴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后滴虫门，双滴纲                      蓝氏贾第鞭毛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611280" y="333360"/>
            <a:ext cx="201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b812f"/>
                </a:solidFill>
                <a:latin typeface="Arial"/>
              </a:rPr>
              <a:t>原虫分类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原生动物界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900000" y="1773360"/>
            <a:ext cx="748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阿米巴门，内阿米巴纲              溶组织内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阿米巴纲                 棘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900000" y="4149720"/>
            <a:ext cx="707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孢子虫门，球虫纲                       疟原虫，刚地弓形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透色动物门，异叶足纲                福氏耐格里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873000" y="5157720"/>
            <a:ext cx="636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纤毛虫门，直口纲                              结肠小袋纤毛虫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84963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                     </a:t>
            </a:r>
            <a:r>
              <a:rPr b="0" lang="zh-CN" sz="3600" spc="-1" strike="noStrike">
                <a:solidFill>
                  <a:srgbClr val="006633"/>
                </a:solidFill>
                <a:latin typeface="Arial"/>
                <a:ea typeface="黑体"/>
              </a:rPr>
              <a:t>第六章  医学原生动物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原生动物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z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具有完整生理功能的</a:t>
            </a: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单细胞真核生物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生于人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管腔、体液、组织或细胞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致病性或非致病性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虫称为</a:t>
            </a:r>
            <a:r>
              <a:rPr b="1" lang="zh-CN" sz="2800" spc="-1" strike="noStrike">
                <a:solidFill>
                  <a:srgbClr val="006633"/>
                </a:solidFill>
                <a:latin typeface="Times New Roman"/>
              </a:rPr>
              <a:t>医学原虫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cal protozoa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95280" y="83664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692360" y="17002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膜、细胞质、细胞核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755640" y="24210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膜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包被在虫体表面，又称表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00000" y="3141720"/>
            <a:ext cx="632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基质、细胞器、内含物组成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900000" y="3860640"/>
            <a:ext cx="7086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）基质</a:t>
            </a:r>
            <a:r>
              <a:rPr b="1" i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外质       内质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 运动细胞器 ：    伪足   鞭毛   纤毛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内含物：伸缩泡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684360" y="620640"/>
            <a:ext cx="814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核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核膜、核质、染色质、核仁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611280" y="249228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寄生在人体的原虫多为泡状核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sicula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11280" y="3141720"/>
          <a:ext cx="7921440" cy="2519280"/>
        </p:xfrm>
        <a:graphic>
          <a:graphicData uri="http://schemas.openxmlformats.org/drawingml/2006/table">
            <a:tbl>
              <a:tblPr/>
              <a:tblGrid>
                <a:gridCol w="1087200"/>
                <a:gridCol w="3864240"/>
                <a:gridCol w="2970000"/>
              </a:tblGrid>
              <a:tr h="106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泡状核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sicular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cleus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实质核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mpact nucleus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染色质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少，呈颗粒状，分布于核质和核膜内缘  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丰富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有一个粒状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常有一个以上的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67"/>
          <p:cNvSpPr/>
          <p:nvPr/>
        </p:nvSpPr>
        <p:spPr>
          <a:xfrm>
            <a:off x="395280" y="12682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核内的染色质和核仁，是生存、繁殖的遗传物质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611280" y="47628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二、生理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684360" y="126828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运动　通过伪足的伸缩、鞭毛或纤毛的摆动而运动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755640" y="2133720"/>
            <a:ext cx="77151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营养　通过表膜直接渗透、胞饮或吞噬摄取营养；有些原虫通过胞口摄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谢　复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液内   分解葡萄糖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肠道内   糖酵解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13"/>
          <p:cNvGrpSpPr/>
          <p:nvPr/>
        </p:nvGrpSpPr>
        <p:grpSpPr>
          <a:xfrm>
            <a:off x="1000080" y="1143000"/>
            <a:ext cx="7740720" cy="3699720"/>
            <a:chOff x="1000080" y="1143000"/>
            <a:chExt cx="7740720" cy="3699720"/>
          </a:xfrm>
        </p:grpSpPr>
        <p:sp>
          <p:nvSpPr>
            <p:cNvPr id="101" name="Text Box 3"/>
            <p:cNvSpPr/>
            <p:nvPr/>
          </p:nvSpPr>
          <p:spPr>
            <a:xfrm>
              <a:off x="1000080" y="186192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无性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2" name="Text Box 4"/>
            <p:cNvSpPr/>
            <p:nvPr/>
          </p:nvSpPr>
          <p:spPr>
            <a:xfrm>
              <a:off x="1000080" y="395100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有性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3" name="Text Box 5"/>
            <p:cNvSpPr/>
            <p:nvPr/>
          </p:nvSpPr>
          <p:spPr>
            <a:xfrm>
              <a:off x="2641680" y="1143000"/>
              <a:ext cx="491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二分裂：利什曼原虫无鞭毛体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4" name="Text Box 6"/>
            <p:cNvSpPr/>
            <p:nvPr/>
          </p:nvSpPr>
          <p:spPr>
            <a:xfrm>
              <a:off x="2641680" y="1822320"/>
              <a:ext cx="512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多分裂：疟原虫红内期裂体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5" name="Text Box 7"/>
            <p:cNvSpPr/>
            <p:nvPr/>
          </p:nvSpPr>
          <p:spPr>
            <a:xfrm>
              <a:off x="2641680" y="2417760"/>
              <a:ext cx="609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芽殖：弓形虫滋养体内二分裂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6" name="AutoShape 8"/>
            <p:cNvSpPr/>
            <p:nvPr/>
          </p:nvSpPr>
          <p:spPr>
            <a:xfrm>
              <a:off x="2355840" y="1312920"/>
              <a:ext cx="379440" cy="1614240"/>
            </a:xfrm>
            <a:custGeom>
              <a:avLst/>
              <a:gdLst>
                <a:gd name="textAreaLeft" fmla="*/ 242640 w 379440"/>
                <a:gd name="textAreaRight" fmla="*/ 379800 w 379440"/>
                <a:gd name="textAreaTop" fmla="*/ 41760 h 1614240"/>
                <a:gd name="textAreaBottom" fmla="*/ 1572480 h 161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2441520" y="366228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配子生殖：疟原虫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8" name="Text Box 10"/>
            <p:cNvSpPr/>
            <p:nvPr/>
          </p:nvSpPr>
          <p:spPr>
            <a:xfrm>
              <a:off x="2441520" y="4383000"/>
              <a:ext cx="400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结合生殖：结肠小袋纤毛虫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9" name="AutoShape 11"/>
            <p:cNvSpPr/>
            <p:nvPr/>
          </p:nvSpPr>
          <p:spPr>
            <a:xfrm>
              <a:off x="2355840" y="3778200"/>
              <a:ext cx="93600" cy="934920"/>
            </a:xfrm>
            <a:custGeom>
              <a:avLst/>
              <a:gdLst>
                <a:gd name="textAreaLeft" fmla="*/ 59760 w 93600"/>
                <a:gd name="textAreaRight" fmla="*/ 93960 w 93600"/>
                <a:gd name="textAreaTop" fmla="*/ 24120 h 934920"/>
                <a:gd name="textAreaBottom" fmla="*/ 910800 h 93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10" name="Rectangle 12"/>
          <p:cNvSpPr/>
          <p:nvPr/>
        </p:nvSpPr>
        <p:spPr>
          <a:xfrm>
            <a:off x="1142280" y="428760"/>
            <a:ext cx="162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生殖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928800" y="5072040"/>
            <a:ext cx="778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</a:rPr>
              <a:t>世代交替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ernation of generation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生活史中存在有性和无性两种交替的增殖方式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疟原虫和弓形虫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611280" y="1268280"/>
            <a:ext cx="8064360" cy="35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滋养体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ophozoit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活动、摄食、生殖阶段     致病阶段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包囊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卵囊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ocy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静止期      传播阶段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人际传播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活史只需要一个宿主，通过接触或传播媒介的机械携带在人与人之间传播。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：阴道毛滴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溶组织内阿米巴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684360" y="404640"/>
            <a:ext cx="457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三、 生活史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人与动物间</a:t>
            </a:r>
            <a:r>
              <a:rPr b="1" lang="zh-CN" sz="2800" spc="-1" strike="noStrike">
                <a:solidFill>
                  <a:srgbClr val="996600"/>
                </a:solidFill>
                <a:latin typeface="Arial"/>
              </a:rPr>
              <a:t>传播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生活史需要一种以上的脊椎动物，分别作为其终宿主和中间宿主，感染阶段可在二者之间传播，主要经口感染。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：刚地弓形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虫媒传播型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史中原虫需在吸血昆虫体内发育、进行有性或无性生殖。寄生原虫通过媒介昆虫叮咬而传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蚊传播疟原虫。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026"/>
          <p:cNvSpPr/>
          <p:nvPr/>
        </p:nvSpPr>
        <p:spPr>
          <a:xfrm>
            <a:off x="611280" y="33336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四、 致病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6" name="Rectangle 1027"/>
          <p:cNvSpPr/>
          <p:nvPr/>
        </p:nvSpPr>
        <p:spPr>
          <a:xfrm>
            <a:off x="971640" y="2781360"/>
            <a:ext cx="7416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增殖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疟原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播散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组织内阿米巴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机会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刚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弓形虫，隐孢子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7" name="Text Box 1028"/>
          <p:cNvSpPr/>
          <p:nvPr/>
        </p:nvSpPr>
        <p:spPr>
          <a:xfrm>
            <a:off x="755640" y="1341360"/>
            <a:ext cx="7110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与原虫的种株、毒力、数量、寄生部位、其他致病因素以及宿主免疫状态有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鱼艳荣</dc:creator>
  <dc:description/>
  <dc:language>en-US</dc:language>
  <cp:lastModifiedBy>hzg</cp:lastModifiedBy>
  <dcterms:modified xsi:type="dcterms:W3CDTF">2015-10-05T09:45:15Z</dcterms:modified>
  <cp:revision>401</cp:revision>
  <dc:subject/>
  <dc:title>PowerPoint Presentation</dc:title>
</cp:coreProperties>
</file>